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2FF-E6E1-4CDE-A9BF-2470B6F4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A04-E273-4A91-A387-CC00AFA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3DC-4D18-4E7D-A5F4-FE529E8A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697-02E7-4C6C-B3B1-10E7DCAA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186-C348-4BA3-8BC0-00A3FFE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1F8-B3AC-49B5-807E-AEA5941A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F96-6FD9-48AD-80CA-68465B64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5FB-D02F-40F6-A687-EDE6C46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E9A-EFEA-4232-BB32-671364A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415-72AB-47F5-9531-34AC267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0ED-BD53-4D92-8319-47E9E6E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CCC-7F39-4799-A0B0-72420200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67BD-2410-4A2B-8CB8-CC5B9B6896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y Documents\My Pictures\hidro\logo.gif"/>
          <p:cNvPicPr/>
          <p:nvPr/>
        </p:nvPicPr>
        <p:blipFill>
          <a:blip r:embed="rId1"/>
          <a:stretch/>
        </p:blipFill>
        <p:spPr>
          <a:xfrm>
            <a:off x="2514600" y="0"/>
            <a:ext cx="404496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295280" y="53341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IDROPONI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71560" y="31680"/>
            <a:ext cx="54673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Cómo crecen las planta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18288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lantas se desarrollan porque reciben una nutrición óptima y condiciones idea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tilización de agua y fertilizantes químicos para nutrir las plantas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segurar un buen crecimiento todas las plantas requier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ua, luz, aire, sales minerales y sustentación para las raí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sitan absorber una parte de los elementos nutritivos de los gases atmosféric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rescindible proveer otro medio de sustentación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WINDOWS\Application Data\Microsoft\Media Catalog\0955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152800" y="152280"/>
            <a:ext cx="4781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ipiente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151776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 de profund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rial plástico, ladrillo o cem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l deben pintarse con barniz o pintu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ra deben forrarse con tela impermeable o plástica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máximo debe ser de 6 metros y el ancho máximo de 90 cm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aciones en su base (Tapon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 que competirán por los nutrientes, el oxígeno y alteran el pH de la solu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rte químicamente para evitar reacciones o cambios en la solución nutritiv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WINDOWS\Application Data\Microsoft\Media Catalog\stand-cl-u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WINDOWS\Application Data\Microsoft\Media Catalog\foto2.jpg"/>
          <p:cNvPicPr/>
          <p:nvPr/>
        </p:nvPicPr>
        <p:blipFill>
          <a:blip r:embed="rId1"/>
          <a:stretch/>
        </p:blipFill>
        <p:spPr>
          <a:xfrm>
            <a:off x="-152280" y="25560"/>
            <a:ext cx="96771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2666880" y="76320"/>
            <a:ext cx="3733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Sustra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66680"/>
            <a:ext cx="91440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o sólido inert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lar y aferrar las raíces protegiéndolas de la luz y permitiéndoles respirar y por otro lado, contener el agua y los nutrientes que las plantas necesit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gránulos componentes del sustrato deben permitir la circulación del aire y de la solución nutritiva. 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666880" y="76320"/>
            <a:ext cx="3733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Sustra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106668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tención de humeda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itir buena aireació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able físicamen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ímicamente iner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lógicamente inert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buen drenaj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capilarida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 liviano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 de bajo cos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disponible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962520" y="923760"/>
            <a:ext cx="54864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carilla de arro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os de hornos y calder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dra póme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rrines y virut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drillos y tejas molidas (libres de elementos calcáreos o cemento)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uma de poliestireno (utilizada casi únicamente para aligerar el peso de otros sustratos.) 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iculita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WINDOWS\Application Data\Microsoft\Media Catalog\1111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3048120" y="114480"/>
            <a:ext cx="3200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Agu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96840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o humano o de anima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guas con gran contenido de sa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guas "duras" que contienen concentraciones de calcio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ua Contaminada: D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nfección más utilizado y el más barato (hipoclorito de sodio o de calcio, 2 a 5 partes por millón de Cloro)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2590920" y="76320"/>
            <a:ext cx="39718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Nutrició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1600200"/>
            <a:ext cx="914400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o, Hidrógeno, Oxígeno, Nitrógeno, Fósforo, Potasio, Calcio, Azufre, Magnesio (macronutrientes) y Hierro, Manganeso, Boro, Zinc, Cobre, Molibdeno, Cobalto y Cloro (micronutrientes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órmula más sencilla para iniciarse es la siguiente 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itrato de calcio.....................118 g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ulfato de Magnesio................... 49 g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Fosfato Monopotásico.................  29 gr.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PARA 100 LITROS DE AGUA)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026"/>
          <p:cNvSpPr txBox="1"/>
          <p:nvPr/>
        </p:nvSpPr>
        <p:spPr>
          <a:xfrm>
            <a:off x="1143000" y="1522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Qué es la Hidroponia?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27"/>
          <p:cNvSpPr/>
          <p:nvPr/>
        </p:nvSpPr>
        <p:spPr>
          <a:xfrm>
            <a:off x="304920" y="1600200"/>
            <a:ext cx="86104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go Hydro (agua) y Ponos (labor o trabajo)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droponia es una ciencia nueva que estudia los cultivos sin tierra. 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s de los métodos Hidropónic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WINDOWS\Application Data\Microsoft\Media Catalog\Cal-Nitrate-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948040" y="152280"/>
            <a:ext cx="29955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 Riego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320" y="148752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on regadera hasta el más sofisticado con controladores automáticos de dosificación de nutrientes, pH y programador automático de riego.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riego consta de un tanque para el agua y nutrientes, tuberías que conducen el agua y goteros o aspersores (emisores).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133720" y="1522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Siembr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905120" y="2209680"/>
            <a:ext cx="5695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Aire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981080" y="4014720"/>
            <a:ext cx="563904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Temperatura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838080" y="1981080"/>
            <a:ext cx="7010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RNADERO 3D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WINDOWS\Application Data\Microsoft\Media Catalog\foto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533600" y="304920"/>
            <a:ext cx="654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mpieza y Mantenimiento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523880"/>
            <a:ext cx="9144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er el cultivo hidropónico libre de polvo y desperdicios vegetale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verificar regularmente las condiciones del agregado , controlar la humedad y observar el vigor con que crecen las planta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debe olvidar el control de la luz y la temperatu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muy útil registrar las fechas de siembra y cosech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nsplante y la po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de la cosech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609480" y="380880"/>
            <a:ext cx="74678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PERIME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6002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CLUSIO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ÍA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eocities.com/CollegePark/Dorm/7635/Hidroponia/elem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mbers.nbci.com/asarapi/cool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alejandria.com/01/bialik/h/hidroponia/hidropo.ht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hydroponicsonline.com/bottles.ht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0" y="1295280"/>
            <a:ext cx="8915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GRACIAS!!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085760" y="0"/>
            <a:ext cx="683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ltivo de plantas sin suelo 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04920" y="1371600"/>
            <a:ext cx="85341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droponia es un sistema eficiente para producir verduras, frutas, flores, hierbas aromáticas, ornamentales de excelente calidad en espacios reducidos sin alterar, ni agredir el medio ambient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ultivo de plantas en un medio acuoso recibiendo los nutrientes minerales que necesitan para crecer de sales disueltas en el agua de riego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WINDOWS\Application Data\Microsoft\Media Catalog\elem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8088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ntajas de la Hidroponi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380880" y="609480"/>
            <a:ext cx="9144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alance ideal de aire, agua y nutrient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umedad uniform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celente drenaj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una mayor densidad de poblac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puede corregir fácil y rápidamente la deficiencia o el exceso de un nutriment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fecto control del pH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depende tanto de los fenómenos metereológic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ás altos rendimientos por unidad de superfici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ro calidad del product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or precocidad en los cultiv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cultivar repetidamente la misma especie de planta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varias cosechas al añ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formidad en los cultiv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requiere mucho menor cantidad de espacio para producir el mismo rendimiento del suel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ran ahorro en el consumo de agua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ción de los costos de producc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porciona excelentes condiciones para semiller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puede utilizar agua con alto contenido de sal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yor limpieza e higien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sibilidad de enriquecer los productos alimenticios con sustancias como vitaminas o minerale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reduce en gran medida la contaminación del medio ambiente y de los riesgos de erosió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si no hay gasto en maquinaria agrícola ya que no se requiere de tractor, arado u otros implementos semejantes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 recuperación de lo invertido es rápida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28600" y="76320"/>
            <a:ext cx="8610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ventajas de la Hidroponi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Requiere para su manejo a nivel comercial de conocimiento técnico combinado con la comprensión de los principios de filosofía vegetal y de química orgánica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A nivel comercial el gasto inicial es relativamente alto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Se requiere cuidado con los detall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Se necesita conocer y manejar la especie que se cultive en el sistema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Requiere de un abastecimiento continuo de agu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942840" y="76320"/>
            <a:ext cx="7258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portancia de la Hidroponia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320" y="65088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alimentos en las zonas árida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regiones tropical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bajo condiciones de clima templado y fri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lugares donde el agua tiene un alto contenido en s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en aquellos lugares en donde la agricultura no es posible debido a limitantes de suelo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hortalizas en las ciudad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hortalizas donde son caras y escasa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a producir flores y plantas ornament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alizar investigaciones ecológica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WINDOWS\Application Data\Microsoft\Media Catalog\foto4.jpg"/>
          <p:cNvPicPr/>
          <p:nvPr/>
        </p:nvPicPr>
        <p:blipFill>
          <a:blip r:embed="rId1"/>
          <a:stretch/>
        </p:blipFill>
        <p:spPr>
          <a:xfrm>
            <a:off x="247176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457200" y="763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dimiento de dos sistemas de cultivo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13842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1403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IVO                RENDIMIENTO MEDIO           RENDIMIENTO MED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UELO                              EN HIDROPO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d/ha/cosecha)                               (tod/ha/cosecha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24112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2430360"/>
            <a:ext cx="914400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Jitomate                         30  -  40                                         100  -  20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pino                           10  -  30                                         100  -  20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anahoria                       15  -  20                                          55  -    75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olacha                          56                                                   105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pa                              20  -  40                                               12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hile                              20  -  30                                          60  -    8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MATA</dc:creator>
  <dc:description/>
  <dc:language>en-US</dc:language>
  <cp:lastModifiedBy>cingacio bajo</cp:lastModifiedBy>
  <dcterms:modified xsi:type="dcterms:W3CDTF">2013-03-18T19:31:36Z</dcterms:modified>
  <cp:revision>3</cp:revision>
  <dc:subject/>
  <dc:title>Presentación de PowerPoint</dc:title>
</cp:coreProperties>
</file>